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2ACE-A4F7-44EC-902D-02999B9C7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479D-FC1A-43FD-8E65-DFCAD28A626D}" type="slidenum">
              <a:rPr b="0" lang="en-US" sz="1200" spc="-1" strike="noStrike">
                <a:solidFill>
                  <a:srgbClr val="1a1a1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09368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98E-BAF6-4F3D-A696-05E66B05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5413-E1E9-4910-9731-9F8330C8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A4E4D-4DA3-4E45-8ACA-347D2C5A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E7BB4-6F29-46BF-B828-58A6B014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40537-4E6C-4BE2-8AFC-D7460A63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2B685-B1AB-468D-AB75-968FE192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FB55B-682B-48E8-98B7-4D98C1AF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3E4D1-C3E7-4CFC-8203-A7E09453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0CDD0-CD2C-49CC-A4F9-07F00D68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6718B-95E1-4AFD-AF25-C6A10C03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E779E-BC2E-4107-99CC-2DEA980D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E5F6D-BE7B-49CC-885F-CBBFB947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DDB-5070-4E18-AFB0-9C51C613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9AFCB-3379-4827-BD05-692D7999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B5FFF-CDAE-4B3E-AD65-1A6C5A87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DD9CC-0B54-4A81-8FE5-E361405B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7AC57-A47B-44AE-96FB-4FA54FED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0D7EB-3F23-4F7B-B7C4-FEC57F6F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1B848-E6A3-41E2-9C7D-C3AA215E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4ECD3-E10B-445F-9B7E-40D8A8AB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6DD94-DAC6-4924-9E62-CC02E375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81507-ACC1-4E85-9C81-E4C5455D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6F353-6FE8-4DB2-816B-4BDD30FC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597-89EF-4A9A-9CFB-C005094C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45865-A5EF-473E-A187-CD60AF13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A3E8B-D92B-4203-A6A7-B8E1D8DB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29F5D-91B2-43DE-921A-A0C102B3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59A8C-1972-45C3-890B-7311C4BD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8323E-8D03-4C43-81A1-E8737366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3336D-5BC9-47EA-9B2D-2A8050DD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5F562-A95C-4B5A-AD0A-C8F7A6CD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D2CFC-80B6-4F78-A3AC-F9793FD0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6362B-0560-4289-B6FD-958C6D68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5F8F8-D445-428D-B48A-1D2E248F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03F4E-C6E6-408E-AF57-0D8AFA96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2E5D1-B281-465F-AEEB-6D063BE9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6A2E3-B8FC-4357-AFA7-D6DBCAD0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365CA-BF4D-44FD-8EE0-C1C1B5E8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49106-F4CB-48C3-9C9D-095CF941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1EFB6-FAC8-4D6E-B8FA-A757B9F7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1CD7A-0671-4B56-92E0-A7439FDF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0256A-2EE0-41D3-9EF9-ABE8E44B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FB815-95A4-4E97-99E6-00089725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F231E-3A68-419B-A6EE-8C3A1AAE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0D99C-5E65-4F3D-A1B8-227577AF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20F9B-F43E-45BC-9338-1B9F385D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32166-7FDC-402B-8D8B-EC6FBBD1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D4A6F-F5C8-4F87-B99C-7F0CC760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8A00F-78B2-4362-93B6-D4587CE0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72A32-0579-4EF3-ABAD-A056C69C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83E5C-DBF7-4C41-A366-B0AEA4B8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D506E-A3C7-45DC-B079-DE2A39F7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42741-8E5C-4DFA-A396-7901A619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F3BD2-ACE1-413F-A01F-16D6638A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0FC54-0DD3-483A-B0A5-B356F83A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6D807-2386-460D-B407-CFDB0E8D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785DD-DF47-45DE-B393-3CA5B3E1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A289A-FD73-4F37-BDA0-A376CFA9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B2E37-7A80-4A48-A899-DA302372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74DA8-7E0F-4126-9F97-2533CCFB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5B3B5-7152-4A56-9F9A-1EA58603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91B44-3EB8-4E28-932D-E2D51B95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8082D-EDAD-45A5-8F2E-88A99F89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86970-DDBB-47F2-8E99-F182A37E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8595A-2E71-47FF-A060-F4FA9B73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034C7-99D5-4431-B763-F2DEBC83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EFDB0-E1A7-48B6-90DC-83DEFDB0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09FF4-C7B5-46BD-9268-C4EC606D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5FBE8-E67F-4520-95EA-F09B96E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1D5E0-84E2-493B-A32E-D4B0F88B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19079-F649-476F-B26C-613E0CDB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3F28D-66AB-4C05-9B09-CD4C15F1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C8DDD-9A89-43CD-84ED-0DF0FD65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15FAA-B2D2-4602-A70D-7BA79CA4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82AE9-1100-4CD0-96DE-9DCBD8C4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90A63-FC80-4D26-9B12-80BA375A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EC334-619D-4E3B-92DA-1C5C495A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A4214-1952-4FB9-AE05-23F6C464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61E77-4F7C-4F26-85A6-B6459DD7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B4766-6F80-40DE-9B18-5BC13BD4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A6EA2-ECC7-4511-A617-279F30A0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A4D79-156A-430D-946F-752ADEFE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2B09B-2E62-4C9A-88CB-885483A3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F427E-A9D9-4B90-BBC2-3B54FBBA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59C23-8B5C-482D-9449-023139A6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AA14D-F5E4-4B93-A9F0-F273B729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EB0AB-1508-4462-930A-E2B4CC79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A9BBD-73D7-4B15-865F-C3F52AF2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81445-7CB3-4434-A053-279D6390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A739A-90A7-4362-87D4-AFACDD4B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D14AE-EC51-48E3-AAA3-51824A33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7E48B-898F-47A0-8F40-54F594C4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277-28E0-48F0-9C9C-605C1009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8C0B7-D1A8-4A22-925E-FC7D69E0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48783-3310-4734-B597-7BED4079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36606-0073-4984-AB2F-6E57E6FC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424EB-42D8-4C1E-81C3-46EDE0F8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0B89E-20E2-4565-8282-CBEF5BC7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44287-9908-45E2-BBA6-715C925A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AE139-5D52-4894-B8C8-C5D0CA6C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066CAE-40BC-46FC-93CA-5F4A9E59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26458-BD3F-4588-BA86-C6A79B26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CFB23-B0B5-4DE4-A768-9D5A5F69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378F7-CD54-4FC6-82F0-6CC354D1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6D9C8-FCAC-4356-A075-47520115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C1C7F-7F8B-4018-89C7-9247EEB6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87FB2-0A35-4AAA-B60B-E52E6CF6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20FBDB-8910-4164-9CEE-8764A75D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A56C26-1647-48C9-B018-0589DBA2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A27B3-80D0-4586-AB18-2CE8C9A7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D25-FB7E-49A6-921A-17A28549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225-E8DC-4697-AEB4-7FDD138E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EC10-16B2-4E07-8BD4-23731D1A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379-8B45-4353-A564-2AC31A49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8EBD-A033-4282-B65F-1505152D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6B43-4315-4EDD-9989-AD2AB9EF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A616-434F-4F83-AE61-7F9CD42B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9F58-59DC-4EFE-B125-61A6E69D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4212-4EB6-4418-9B4C-63BF7B02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70E6-052F-47B5-B4FB-8064E86C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DE29-0E4D-4477-8C94-B9C875FE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CF28-DE90-4130-A4DC-2D8796D2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530E-8317-46B8-9CF3-E53906B8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2746-03A1-4AEF-89CF-8D9A1AD4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7DC-5EA6-4EA9-85EB-8DAF0B57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024B-9BAD-4510-80A9-324CA045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F0E75-4F8A-4112-B03C-26F9C30B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D6639-4328-49B6-B64E-6CDCA87F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995C-70FB-42C7-B023-36746CC0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26853-0833-4D7A-913F-DC0BE9C8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FFBC-0A6E-494F-BD57-85A785F5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C89CF-75C4-4E4B-BD2A-FF853FFB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6066F-B10E-46AF-9EDC-E34A6824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6D8E-12FE-47A7-86D1-238074A2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2016-5966-4C73-87A3-1FBF8041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EBD-E6BD-4AA9-B568-FA2712CE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E5F5D-9CC3-444C-8105-44FA2562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A6064-7146-4BD1-85E1-7D9C6FD5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100CE-1F78-4095-85F9-86341BE6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82DF5-34A6-43E6-BEC1-EFDD01B5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4343A-F6CC-44BE-A7C0-C3188E78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2F3EE-3292-4A79-898C-FC02746D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A3A45-AF11-4A60-8213-21BAAE4C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1DC09-1723-4F3D-9A19-57991972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A43D8-A680-43BB-82D4-1A9ADEEF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B8CAF-21EF-4B29-99EA-9402A2EB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EB5-A62F-468F-B993-3BDA1063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7DE5-1E86-4CFF-B6D3-2E8C64E9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2286F-0575-44DD-91FE-D46B4AAA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3A14E-3176-48A9-8EEB-F1ED45E5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094FA-3954-4878-9FE9-4297DC6A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E97D6-7935-49DE-908C-787A3F86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0A51C-F5FC-4F63-8ED9-6B93940C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4B634-E64B-4757-8B65-CAA1F06B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FB4E4-3A79-4D08-8AC5-639BA4AD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AFFB9-DE3E-46FA-973A-97162E3B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3E3AE-EAB9-4917-B4F7-1E0C7049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5EF-D96B-4CE9-9CF2-7A77284F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96E76-31F0-43E1-BE32-8D57B4FD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4F895-2EC5-4FE1-858F-EB678DE1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063BE-BC49-4C00-A95E-448C0015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89ECB-40C4-4BC5-997E-A78316FC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7FD70-53EE-4BB2-8D74-2AA90964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AF461-3D29-4A33-A968-F00335E6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8A1C1-5530-426D-9120-C71064FC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D0104-E37C-4A03-B668-9B37064E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B541D-35C1-4A21-ACFC-F14527B1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F3E6C-803F-45D6-9C55-C7CB6BA7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international-pain-school.org/" TargetMode="Externa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7ECC-735D-4CCA-BF63-CCD8FE3905F6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5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2F90-3C88-4F93-B570-07607C9ABD52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63B3-20EF-4CEE-A35B-ECE94E461FA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933F-7EFB-4271-83E5-85B2DB24501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988F-1D3D-488C-AEED-F554047BD4BC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5FD5-A508-4C77-B7B1-88956E9D821F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E3B2-0107-42A9-98D7-23E0A4EA7B2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4DDC-48C9-47A9-852F-8BD4B0B1488F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ounded Rectangle 3"/>
          <p:cNvSpPr/>
          <p:nvPr/>
        </p:nvSpPr>
        <p:spPr>
          <a:xfrm rot="5400000">
            <a:off x="7739280" y="-27720"/>
            <a:ext cx="43524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EEC1-1ECB-49F8-9BB7-B5744457C07D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858585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858585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858585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5" name="Rounded Rectangle 2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6" name="TextBox 3"/>
          <p:cNvSpPr/>
          <p:nvPr/>
        </p:nvSpPr>
        <p:spPr>
          <a:xfrm>
            <a:off x="777960" y="4487760"/>
            <a:ext cx="75866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Open Sans"/>
              </a:rPr>
              <a:t>More lectures and further information can be found on our project website.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 u="sng">
                <a:solidFill>
                  <a:srgbClr val="008bcb"/>
                </a:solidFill>
                <a:uFillTx/>
                <a:latin typeface="Open Sans"/>
                <a:hlinkClick r:id="rId2"/>
              </a:rPr>
              <a:t>www.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Open Sans"/>
              </a:rPr>
              <a:t>© 2013 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1a1a1a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1a1a1a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333333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3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A76C-29BC-4F73-B3A2-63DC7122BC97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7376-3D4D-4776-B75C-BC7FDF28312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85C3-727D-4F59-B941-DB4A47DAB85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9009-CC61-446E-BEF5-E202620B2F7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95C7-3343-4A8A-B0C7-984806B1CB45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Integration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can be a part of symptom management from the time of diagnosi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there are no curative options, focus medications and treatments on comfort only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osing of pain medication, such as opioids, has no upper limit-especially at then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reat all aspects of the patient as their greatest suffering may not be from physical pai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Remember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only requires attention to what the patient needs, regular re-assessment, and access to medication.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igh-quality palliative care does not require any high-tech materials or equipmen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one can provide palliative care to those in need, especially at the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45720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Open Sans Semibold"/>
              </a:rPr>
              <a:t>This talk was originally prepared by: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468360" y="1676520"/>
            <a:ext cx="84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Jamie Laubisch MD &amp; Justin Baker MD</a:t>
            </a:r>
            <a:endParaRPr b="0" lang="en-US" sz="36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Memphis, USA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84360" y="1266840"/>
          <a:ext cx="7696080" cy="4983120"/>
        </p:xfrm>
        <a:graphic>
          <a:graphicData uri="http://schemas.openxmlformats.org/drawingml/2006/table">
            <a:tbl>
              <a:tblPr/>
              <a:tblGrid>
                <a:gridCol w="4260600"/>
                <a:gridCol w="3435480"/>
              </a:tblGrid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ology and pathophysiology of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ilesh Patel, PhD, Keny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of pain &amp;  taking a pain histor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Yohannes Woubished, M.D, Addis Ababa, Ethiop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pharmacology of analgesic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non-pharmacological treatment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Ramani Vijayan, M.D. Kuala Lumpur, Malays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ominique Fletcher, M.D, Garches &amp; Xavier Lassalle, RN, MSF, Paris, Franc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– high treatment technology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arinder Rawal, M.D. PhD, FRCA(Hon), Orebro, Swede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Cancer pain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Barbara Kleinmann, MD, Freiburg, German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cer pain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Doralina Anghelescu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liative Car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-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D, Helsinki &amp; Aki Hietaharju,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.D., Helsinki &amp; Aki Hietaharju, M.D., 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logical aspects of managing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Etleva Gjoni, Germany 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Management Challenge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ebra Gordon, RN, DNP, FAAN, Seattle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Open Sans Semibold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pic>
        <p:nvPicPr>
          <p:cNvPr id="834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54920" cy="33256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919440" y="19810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  <a:ea typeface="Arial"/>
              </a:rPr>
              <a:t>The project is supported by these organizations: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53370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Open Sans"/>
              </a:rPr>
              <a:t>Type in the name of your institution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76000" y="4149720"/>
            <a:ext cx="680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Open Sans"/>
              </a:rPr>
              <a:t>Type in your name</a:t>
            </a: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476000" y="3284280"/>
            <a:ext cx="68007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Open Sans"/>
              </a:rPr>
              <a:t>Palliative Care</a:t>
            </a:r>
            <a:endParaRPr b="0" lang="en-US" sz="46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pic>
        <p:nvPicPr>
          <p:cNvPr id="797" name="Picture 6" descr="http://1.bp.blogspot.com/_f2I8sVbYok0/TCAm4wO8HrI/AAAAAAAACCQ/w-9D41FN3OQ/s1600/holding+hands.jpg"/>
          <p:cNvPicPr/>
          <p:nvPr/>
        </p:nvPicPr>
        <p:blipFill>
          <a:blip r:embed="rId1"/>
          <a:srcRect l="5915" t="5843" r="6089" b="6326"/>
          <a:stretch/>
        </p:blipFill>
        <p:spPr>
          <a:xfrm>
            <a:off x="-66600" y="0"/>
            <a:ext cx="9210600" cy="6875640"/>
          </a:xfrm>
          <a:prstGeom prst="rect">
            <a:avLst/>
          </a:prstGeom>
          <a:ln w="0">
            <a:noFill/>
          </a:ln>
        </p:spPr>
      </p:pic>
      <p:sp>
        <p:nvSpPr>
          <p:cNvPr id="79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7960" y="2301840"/>
            <a:ext cx="7586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tive total care of the patient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gins at diagnosis, and continues regardless of whether or not a patient receives treatment directed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t the diseas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alth providers must evaluate and alleviate a child's physical, psychological, and social distres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quires a broad interdisciplinary approa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77960" y="1368000"/>
            <a:ext cx="75866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Open Sans Semibold"/>
              </a:rPr>
              <a:t>WHO definition of palliative care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“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art and science of patient and family-centered care aimed at attending to suffering, promoting healing and improving quality of life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”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goal is to add life to the patient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’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 years, not simply years to the their life 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y is it so important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762120" y="114300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e cannot cure or save everyone and we will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ll die someday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resources are limited or unavailable,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 patient should have the benefit of symptom management, especially at the end of lif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Opioids should be available for all patients to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lp alleviate pain and suffering, although not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rrently the cas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does not require high-tech medicine, but may be achieved anywhere with education and dedication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Aspects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rovide comf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Foster interpersonal relationship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u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reavement car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Totality of Personhood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77960" y="5867280"/>
            <a:ext cx="758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Open Sans"/>
              </a:rPr>
              <a:t>Goal: to attend to suffering, of any kind, and improve quality of life</a:t>
            </a:r>
            <a:endParaRPr b="0" lang="en-US" sz="1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3352680" y="3352680"/>
            <a:ext cx="2210040" cy="2210040"/>
          </a:xfrm>
          <a:prstGeom prst="ellipse">
            <a:avLst/>
          </a:prstGeom>
          <a:solidFill>
            <a:srgbClr val="df00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1" name="Oval 3"/>
          <p:cNvSpPr/>
          <p:nvPr/>
        </p:nvSpPr>
        <p:spPr>
          <a:xfrm>
            <a:off x="2514600" y="1905120"/>
            <a:ext cx="2209680" cy="2209680"/>
          </a:xfrm>
          <a:prstGeom prst="ellipse">
            <a:avLst/>
          </a:prstGeom>
          <a:solidFill>
            <a:srgbClr val="604a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4191120" y="1905120"/>
            <a:ext cx="2209680" cy="2209680"/>
          </a:xfrm>
          <a:prstGeom prst="ellipse">
            <a:avLst/>
          </a:prstGeom>
          <a:solidFill>
            <a:srgbClr val="008b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990720" y="1721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lig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990720" y="515016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et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553080" y="17236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lture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248520" y="515016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ducat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3048120" y="27954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od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4686480" y="27954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Mind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3924360" y="424296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Barriers to High Quality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erson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ly difficult, taboos, resisting chang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ystem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cess to services, reimbursement, fragmentation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Quality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eficient education, lack of outcomes resear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echnic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Lack of appropriate evaluation tool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21:01:03Z</dcterms:created>
  <dc:creator>SJCRH</dc:creator>
  <dc:description/>
  <dc:language>en-US</dc:language>
  <cp:lastModifiedBy>ruth</cp:lastModifiedBy>
  <dcterms:modified xsi:type="dcterms:W3CDTF">2015-06-15T09:50:54Z</dcterms:modified>
  <cp:revision>37</cp:revision>
  <dc:subject/>
  <dc:title>Palliative Care</dc:title>
</cp:coreProperties>
</file>